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356-7995-4D53-AAEE-C94B29BD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A19-7F5E-4763-AD62-EE939AC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CFF-B1C5-4629-9984-291AB17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22A-461F-44BD-B4DF-606862C1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320-A48A-4D33-8FF8-9F391674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45D-AE68-4F96-947C-39AFFB53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876-523D-4DA6-ADAB-6EA25051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4BE-B644-48D6-9D8C-975F7CF2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A64-FD93-4134-8296-DAD57D92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C32-8268-436C-803E-6CD15BD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26E-A72C-4420-8A83-018998D1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3EC-66EE-4947-8D9A-626B58D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F00E-27EC-47D5-B5CC-40276CA7D0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powerpoints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 Griffi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ington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03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teacherpowerpoin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100’s of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Beryl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yllium has four electrons, four protons and five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Bo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ron has five electrons, five protons and six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Carb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bon has six electrons, six protons and six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Nitro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trogen has seven electrons, seven protons and sev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Oxy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has eight electrons, eight protons and eight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Fluor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orine has nine electrons, nine protons and t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Ne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n has ten electrons, ten protons and t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Sod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6248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dium has eleven electrons, eleven protons and twelve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676520"/>
            <a:ext cx="8458200" cy="457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63120" y="396252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60020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66680" y="228600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98108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981080" y="17524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1600200"/>
            <a:ext cx="19051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114800" y="2286000"/>
            <a:ext cx="838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02920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1752480"/>
            <a:ext cx="381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6477120" y="160020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010280" y="228600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92468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848720" y="17524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49568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5181480"/>
            <a:ext cx="13716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6324480"/>
            <a:ext cx="380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828800" y="46483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495680"/>
            <a:ext cx="19051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62520" y="5181480"/>
            <a:ext cx="1143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76920" y="632448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76920" y="46483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449568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10280" y="518148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848720" y="6324480"/>
            <a:ext cx="380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9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20120" y="4648320"/>
            <a:ext cx="609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w many protons, neutrons and electr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315200" y="228600"/>
            <a:ext cx="1828800" cy="3050640"/>
            <a:chOff x="7315200" y="228600"/>
            <a:chExt cx="1828800" cy="305064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rcRect l="12433" t="5553" r="12376" b="10689"/>
            <a:stretch/>
          </p:blipFill>
          <p:spPr>
            <a:xfrm>
              <a:off x="7324560" y="228600"/>
              <a:ext cx="18194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315200" y="281952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ndelee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80880" y="3429000"/>
          <a:ext cx="8458200" cy="312408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59" name=""/>
          <p:cNvGrpSpPr/>
          <p:nvPr/>
        </p:nvGrpSpPr>
        <p:grpSpPr>
          <a:xfrm>
            <a:off x="380880" y="990720"/>
            <a:ext cx="6629400" cy="1066680"/>
            <a:chOff x="380880" y="990720"/>
            <a:chExt cx="6629400" cy="1066680"/>
          </a:xfrm>
        </p:grpSpPr>
        <p:sp>
          <p:nvSpPr>
            <p:cNvPr id="460" name=""/>
            <p:cNvSpPr/>
            <p:nvPr/>
          </p:nvSpPr>
          <p:spPr>
            <a:xfrm>
              <a:off x="380880" y="990720"/>
              <a:ext cx="6553440" cy="1066680"/>
            </a:xfrm>
            <a:prstGeom prst="wedgeRectCallout">
              <a:avLst>
                <a:gd name="adj1" fmla="val 62643"/>
                <a:gd name="adj2" fmla="val -3184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880" y="1066680"/>
              <a:ext cx="66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The periodic table arranges all the elements in groups according to their properti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33720" y="5029200"/>
            <a:ext cx="6107040" cy="762120"/>
          </a:xfrm>
          <a:prstGeom prst="rightArrow">
            <a:avLst>
              <a:gd name="adj1" fmla="val 50000"/>
              <a:gd name="adj2" fmla="val 10869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 rows are called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3733920"/>
            <a:ext cx="457200" cy="2666880"/>
          </a:xfrm>
          <a:prstGeom prst="downArrow">
            <a:avLst>
              <a:gd name="adj1" fmla="val 50000"/>
              <a:gd name="adj2" fmla="val 1458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8600" y="2438280"/>
            <a:ext cx="2438280" cy="1295640"/>
            <a:chOff x="228600" y="2438280"/>
            <a:chExt cx="2438280" cy="1295640"/>
          </a:xfrm>
        </p:grpSpPr>
        <p:sp>
          <p:nvSpPr>
            <p:cNvPr id="466" name=""/>
            <p:cNvSpPr/>
            <p:nvPr/>
          </p:nvSpPr>
          <p:spPr>
            <a:xfrm>
              <a:off x="228600" y="2438280"/>
              <a:ext cx="2362320" cy="129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" y="2438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rtical columns are called GROU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131840"/>
            <a:ext cx="6121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80880" y="2495520"/>
          <a:ext cx="8458200" cy="31194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9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57160"/>
            <a:ext cx="7429680" cy="1314720"/>
          </a:xfrm>
          <a:prstGeom prst="wedgeRoundRectCallout">
            <a:avLst>
              <a:gd name="adj1" fmla="val 61347"/>
              <a:gd name="adj2" fmla="val -43597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1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 in the same group have the same number of electrons in the outer shell (this correspond to their group nu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5372280"/>
            <a:ext cx="2819520" cy="1792800"/>
            <a:chOff x="0" y="5372280"/>
            <a:chExt cx="2819520" cy="1792800"/>
          </a:xfrm>
        </p:grpSpPr>
        <p:sp>
          <p:nvSpPr>
            <p:cNvPr id="473" name=""/>
            <p:cNvSpPr/>
            <p:nvPr/>
          </p:nvSpPr>
          <p:spPr>
            <a:xfrm>
              <a:off x="0" y="5851440"/>
              <a:ext cx="2819520" cy="13136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.g. all group 1 metals have __ electron in their outer 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9960" y="5372280"/>
              <a:ext cx="438120" cy="571320"/>
            </a:xfrm>
            <a:prstGeom prst="upArrow">
              <a:avLst>
                <a:gd name="adj1" fmla="val 50000"/>
                <a:gd name="adj2" fmla="val 3260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705720" y="4857840"/>
            <a:ext cx="2438280" cy="1980360"/>
            <a:chOff x="6705720" y="4857840"/>
            <a:chExt cx="2438280" cy="1980360"/>
          </a:xfrm>
        </p:grpSpPr>
        <p:sp>
          <p:nvSpPr>
            <p:cNvPr id="476" name=""/>
            <p:cNvSpPr/>
            <p:nvPr/>
          </p:nvSpPr>
          <p:spPr>
            <a:xfrm>
              <a:off x="6705720" y="5829480"/>
              <a:ext cx="2438280" cy="100872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se elements have __ electrons in their outer 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00960" y="4857840"/>
              <a:ext cx="438120" cy="1104840"/>
            </a:xfrm>
            <a:prstGeom prst="upArrow">
              <a:avLst>
                <a:gd name="adj1" fmla="val 50000"/>
                <a:gd name="adj2" fmla="val 63044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390840" y="4038480"/>
            <a:ext cx="3086280" cy="2821680"/>
            <a:chOff x="3390840" y="4038480"/>
            <a:chExt cx="3086280" cy="2821680"/>
          </a:xfrm>
        </p:grpSpPr>
        <p:sp>
          <p:nvSpPr>
            <p:cNvPr id="479" name=""/>
            <p:cNvSpPr/>
            <p:nvPr/>
          </p:nvSpPr>
          <p:spPr>
            <a:xfrm>
              <a:off x="3390840" y="5851440"/>
              <a:ext cx="2971800" cy="1008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se elements have __ electrons in their outer shel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9000" y="4038480"/>
              <a:ext cx="438120" cy="1943280"/>
            </a:xfrm>
            <a:prstGeom prst="upArrow">
              <a:avLst>
                <a:gd name="adj1" fmla="val 50000"/>
                <a:gd name="adj2" fmla="val 1108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82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857160"/>
            <a:ext cx="7429680" cy="876240"/>
          </a:xfrm>
          <a:prstGeom prst="wedgeRoundRectCallout">
            <a:avLst>
              <a:gd name="adj1" fmla="val 61347"/>
              <a:gd name="adj2" fmla="val -40398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2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you move down through the periods an extra electron shell is add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9440" y="2117880"/>
            <a:ext cx="3960720" cy="1072800"/>
            <a:chOff x="649440" y="2117880"/>
            <a:chExt cx="3960720" cy="1072800"/>
          </a:xfrm>
        </p:grpSpPr>
        <p:sp>
          <p:nvSpPr>
            <p:cNvPr id="486" name=""/>
            <p:cNvSpPr/>
            <p:nvPr/>
          </p:nvSpPr>
          <p:spPr>
            <a:xfrm rot="14289000">
              <a:off x="1108080" y="1993320"/>
              <a:ext cx="438120" cy="1323720"/>
            </a:xfrm>
            <a:prstGeom prst="upArrow">
              <a:avLst>
                <a:gd name="adj1" fmla="val 50000"/>
                <a:gd name="adj2" fmla="val 75534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90640" y="2117880"/>
              <a:ext cx="2819520" cy="1008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.g. Lithium has 3 electron in the configuration 2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2000" y="4089960"/>
            <a:ext cx="4411800" cy="2770200"/>
            <a:chOff x="522000" y="4089960"/>
            <a:chExt cx="4411800" cy="2770200"/>
          </a:xfrm>
        </p:grpSpPr>
        <p:sp>
          <p:nvSpPr>
            <p:cNvPr id="489" name=""/>
            <p:cNvSpPr/>
            <p:nvPr/>
          </p:nvSpPr>
          <p:spPr>
            <a:xfrm rot="19461000">
              <a:off x="1096560" y="4019040"/>
              <a:ext cx="438120" cy="2113200"/>
            </a:xfrm>
            <a:prstGeom prst="upArrow">
              <a:avLst>
                <a:gd name="adj1" fmla="val 50000"/>
                <a:gd name="adj2" fmla="val 120583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1560" y="5851440"/>
              <a:ext cx="3162240" cy="100872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tassium has 19 electrons in the configuration __,__,__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09560" y="3425760"/>
            <a:ext cx="4681440" cy="1567440"/>
            <a:chOff x="709560" y="3425760"/>
            <a:chExt cx="4681440" cy="1567440"/>
          </a:xfrm>
        </p:grpSpPr>
        <p:sp>
          <p:nvSpPr>
            <p:cNvPr id="492" name=""/>
            <p:cNvSpPr/>
            <p:nvPr/>
          </p:nvSpPr>
          <p:spPr>
            <a:xfrm rot="17088600">
              <a:off x="1485720" y="2914560"/>
              <a:ext cx="438480" cy="1943280"/>
            </a:xfrm>
            <a:prstGeom prst="upArrow">
              <a:avLst>
                <a:gd name="adj1" fmla="val 50000"/>
                <a:gd name="adj2" fmla="val 11079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19200" y="3984480"/>
              <a:ext cx="2971800" cy="1008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dium has 11 electrons in the configuration 2,8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95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57160"/>
            <a:ext cx="7429680" cy="876240"/>
          </a:xfrm>
          <a:prstGeom prst="wedgeRoundRectCallout">
            <a:avLst>
              <a:gd name="adj1" fmla="val 61347"/>
              <a:gd name="adj2" fmla="val -40398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3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ost of the elements are met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70240" y="1913040"/>
            <a:ext cx="3219480" cy="1563840"/>
            <a:chOff x="3270240" y="1913040"/>
            <a:chExt cx="3219480" cy="1563840"/>
          </a:xfrm>
        </p:grpSpPr>
        <p:sp>
          <p:nvSpPr>
            <p:cNvPr id="499" name=""/>
            <p:cNvSpPr/>
            <p:nvPr/>
          </p:nvSpPr>
          <p:spPr>
            <a:xfrm rot="14289000">
              <a:off x="3728880" y="2279160"/>
              <a:ext cx="438120" cy="1324080"/>
            </a:xfrm>
            <a:prstGeom prst="upArrow">
              <a:avLst>
                <a:gd name="adj1" fmla="val 50000"/>
                <a:gd name="adj2" fmla="val 75555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70200" y="1913040"/>
              <a:ext cx="2819520" cy="82548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se elements are 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730600" y="4283280"/>
            <a:ext cx="4366440" cy="2578680"/>
            <a:chOff x="2730600" y="4283280"/>
            <a:chExt cx="4366440" cy="2578680"/>
          </a:xfrm>
        </p:grpSpPr>
        <p:sp>
          <p:nvSpPr>
            <p:cNvPr id="502" name=""/>
            <p:cNvSpPr/>
            <p:nvPr/>
          </p:nvSpPr>
          <p:spPr>
            <a:xfrm rot="3076200">
              <a:off x="5916600" y="4058640"/>
              <a:ext cx="438120" cy="2112840"/>
            </a:xfrm>
            <a:prstGeom prst="upArrow">
              <a:avLst>
                <a:gd name="adj1" fmla="val 50000"/>
                <a:gd name="adj2" fmla="val 120563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0600" y="5670720"/>
              <a:ext cx="2692440" cy="1191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is line divides metals from non-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72200" y="4684680"/>
            <a:ext cx="2971800" cy="2021040"/>
            <a:chOff x="6172200" y="4684680"/>
            <a:chExt cx="2971800" cy="2021040"/>
          </a:xfrm>
        </p:grpSpPr>
        <p:sp>
          <p:nvSpPr>
            <p:cNvPr id="505" name=""/>
            <p:cNvSpPr/>
            <p:nvPr/>
          </p:nvSpPr>
          <p:spPr>
            <a:xfrm>
              <a:off x="8150400" y="4684680"/>
              <a:ext cx="438120" cy="1943280"/>
            </a:xfrm>
            <a:prstGeom prst="upArrow">
              <a:avLst>
                <a:gd name="adj1" fmla="val 50000"/>
                <a:gd name="adj2" fmla="val 1108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5880240"/>
              <a:ext cx="297180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se elements are non-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019920" y="3429000"/>
            <a:ext cx="1879560" cy="1782720"/>
            <a:chOff x="6019920" y="3429000"/>
            <a:chExt cx="1879560" cy="1782720"/>
          </a:xfrm>
        </p:grpSpPr>
        <p:sp>
          <p:nvSpPr>
            <p:cNvPr id="508" name=""/>
            <p:cNvSpPr/>
            <p:nvPr/>
          </p:nvSpPr>
          <p:spPr>
            <a:xfrm>
              <a:off x="6019920" y="342900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89720" y="387036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59520" y="4317840"/>
              <a:ext cx="47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29680" y="476424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89720" y="342900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59520" y="3884760"/>
              <a:ext cx="0" cy="441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29680" y="432288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9480" y="477036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7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857160"/>
            <a:ext cx="7429680" cy="1638360"/>
          </a:xfrm>
          <a:prstGeom prst="wedgeRoundRectCallout">
            <a:avLst>
              <a:gd name="adj1" fmla="val 61347"/>
              <a:gd name="adj2" fmla="val -44865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4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Most important) All of the elements in the same group have similar PROPERTIES.  This is how I thought of the periodic table in the first place.  This is called PERIODIC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24880" y="4185000"/>
            <a:ext cx="7844400" cy="3066840"/>
            <a:chOff x="524880" y="4185000"/>
            <a:chExt cx="7844400" cy="3066840"/>
          </a:xfrm>
        </p:grpSpPr>
        <p:sp>
          <p:nvSpPr>
            <p:cNvPr id="521" name=""/>
            <p:cNvSpPr/>
            <p:nvPr/>
          </p:nvSpPr>
          <p:spPr>
            <a:xfrm rot="18331200">
              <a:off x="1618560" y="3753000"/>
              <a:ext cx="438120" cy="2913120"/>
            </a:xfrm>
            <a:prstGeom prst="upArrow">
              <a:avLst>
                <a:gd name="adj1" fmla="val 50000"/>
                <a:gd name="adj2" fmla="val 166228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65400" y="4757760"/>
              <a:ext cx="6203880" cy="249408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.g. consider the group 1 metals.  They all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e 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an be easily cut with a knif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act with wa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1 – The alkali met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84940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647640" y="1301760"/>
          <a:ext cx="1047600" cy="516852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b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6" name="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1 – The alkali met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5238720" y="876240"/>
          <a:ext cx="3467160" cy="1700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536" name="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K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s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+      2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l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      2KOH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aq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  +       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 – The Noble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0016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7764480" y="1488960"/>
          <a:ext cx="1047240" cy="5168520"/>
        </p:xfrm>
        <a:graphic>
          <a:graphicData uri="http://schemas.openxmlformats.org/drawingml/2006/table">
            <a:tbl>
              <a:tblPr/>
              <a:tblGrid>
                <a:gridCol w="104724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 flipV="1">
            <a:off x="6162840" y="1488960"/>
            <a:ext cx="1601640" cy="897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62840" y="4411800"/>
            <a:ext cx="1601640" cy="224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 – The Noble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238720" y="876240"/>
          <a:ext cx="3467160" cy="1700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 –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0016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764480" y="1488960"/>
          <a:ext cx="1047600" cy="516888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 flipV="1">
            <a:off x="5830920" y="1488600"/>
            <a:ext cx="1933560" cy="12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30920" y="441180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 –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7650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276800" y="952560"/>
          <a:ext cx="3286080" cy="15890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4" name="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566" name="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571" name="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576" name="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579" name="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582" name="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585" name="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588" name="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591" name="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601" name="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tructure of 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2280" y="2790720"/>
            <a:ext cx="7162920" cy="2590920"/>
            <a:chOff x="152280" y="2790720"/>
            <a:chExt cx="7162920" cy="2590920"/>
          </a:xfrm>
        </p:grpSpPr>
        <p:grpSp>
          <p:nvGrpSpPr>
            <p:cNvPr id="49" name=""/>
            <p:cNvGrpSpPr/>
            <p:nvPr/>
          </p:nvGrpSpPr>
          <p:grpSpPr>
            <a:xfrm>
              <a:off x="3200400" y="3552840"/>
              <a:ext cx="990720" cy="1066680"/>
              <a:chOff x="3200400" y="3552840"/>
              <a:chExt cx="990720" cy="1066680"/>
            </a:xfrm>
          </p:grpSpPr>
          <p:sp>
            <p:nvSpPr>
              <p:cNvPr id="50" name=""/>
              <p:cNvSpPr/>
              <p:nvPr/>
            </p:nvSpPr>
            <p:spPr>
              <a:xfrm>
                <a:off x="3581640" y="35528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200400" y="37051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657600" y="39337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00400" y="408600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52280" y="2790720"/>
              <a:ext cx="7162920" cy="259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5280" y="49244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080" y="28670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556240" y="2958120"/>
            <a:ext cx="3587760" cy="2790000"/>
            <a:chOff x="5556240" y="2958120"/>
            <a:chExt cx="3587760" cy="2790000"/>
          </a:xfrm>
        </p:grpSpPr>
        <p:sp>
          <p:nvSpPr>
            <p:cNvPr id="58" name=""/>
            <p:cNvSpPr/>
            <p:nvPr/>
          </p:nvSpPr>
          <p:spPr>
            <a:xfrm rot="2277000">
              <a:off x="5486400" y="3580920"/>
              <a:ext cx="2209680" cy="533520"/>
            </a:xfrm>
            <a:prstGeom prst="leftArrow">
              <a:avLst>
                <a:gd name="adj1" fmla="val 50000"/>
                <a:gd name="adj2" fmla="val 10354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0" y="419112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LECTRON – negative, mass nearly noth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45960" y="4223880"/>
            <a:ext cx="2694600" cy="2638440"/>
            <a:chOff x="3945960" y="4223880"/>
            <a:chExt cx="2694600" cy="2638440"/>
          </a:xfrm>
        </p:grpSpPr>
        <p:sp>
          <p:nvSpPr>
            <p:cNvPr id="61" name=""/>
            <p:cNvSpPr/>
            <p:nvPr/>
          </p:nvSpPr>
          <p:spPr>
            <a:xfrm rot="2824800">
              <a:off x="3885840" y="472464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54560" y="530532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ROTON – positive, same mass as neutron (“1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380480"/>
            <a:ext cx="3400920" cy="2481840"/>
            <a:chOff x="0" y="4380480"/>
            <a:chExt cx="3400920" cy="2481840"/>
          </a:xfrm>
        </p:grpSpPr>
        <p:sp>
          <p:nvSpPr>
            <p:cNvPr id="64" name=""/>
            <p:cNvSpPr/>
            <p:nvPr/>
          </p:nvSpPr>
          <p:spPr>
            <a:xfrm>
              <a:off x="0" y="530532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EUTRON – neutral, same mass as proton (“1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274000">
              <a:off x="1828080" y="4848120"/>
              <a:ext cx="1600200" cy="533520"/>
            </a:xfrm>
            <a:prstGeom prst="leftArrow">
              <a:avLst>
                <a:gd name="adj1" fmla="val 50000"/>
                <a:gd name="adj2" fmla="val 74983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rcRect l="8167" t="7231" r="10790" b="9756"/>
          <a:stretch/>
        </p:blipFill>
        <p:spPr>
          <a:xfrm>
            <a:off x="7211880" y="914400"/>
            <a:ext cx="193212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476280"/>
            <a:ext cx="7543800" cy="1676520"/>
          </a:xfrm>
          <a:prstGeom prst="wedgeRoundRectCallout">
            <a:avLst>
              <a:gd name="adj1" fmla="val 55722"/>
              <a:gd name="adj2" fmla="val 30777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Ancient Greeks used to believe that everything was made up of very small particles.  I did some experiments in 1808 that proved this and called these particles ATO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alogens – some re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614" name="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9900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3" name="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638" name="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642" name="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655" name="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659" name="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671" name="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685" name="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688" name="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shells fi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electron shell can only hold a maximum of two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electron shell can hold a maximum of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ird electron shell can also hold a maximum of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urth electron shell can also hold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on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762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Consider an atom of Potass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819000" y="1276200"/>
            <a:ext cx="1905120" cy="2362320"/>
            <a:chOff x="819000" y="1276200"/>
            <a:chExt cx="1905120" cy="2362320"/>
          </a:xfrm>
        </p:grpSpPr>
        <p:sp>
          <p:nvSpPr>
            <p:cNvPr id="695" name=""/>
            <p:cNvSpPr/>
            <p:nvPr/>
          </p:nvSpPr>
          <p:spPr>
            <a:xfrm>
              <a:off x="819000" y="1276200"/>
              <a:ext cx="190512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1352520" y="1962000"/>
              <a:ext cx="83808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2114280" y="3105000"/>
              <a:ext cx="4572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1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114280" y="1428840"/>
              <a:ext cx="457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3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28600" y="3753000"/>
            <a:ext cx="39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assium has 19 electrons.  These are arranged in shell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191120" y="895320"/>
            <a:ext cx="4724280" cy="4724280"/>
            <a:chOff x="4191120" y="895320"/>
            <a:chExt cx="4724280" cy="4724280"/>
          </a:xfrm>
        </p:grpSpPr>
        <p:grpSp>
          <p:nvGrpSpPr>
            <p:cNvPr id="701" name=""/>
            <p:cNvGrpSpPr/>
            <p:nvPr/>
          </p:nvGrpSpPr>
          <p:grpSpPr>
            <a:xfrm>
              <a:off x="4191120" y="895320"/>
              <a:ext cx="4724280" cy="4724280"/>
              <a:chOff x="4191120" y="895320"/>
              <a:chExt cx="4724280" cy="4724280"/>
            </a:xfrm>
          </p:grpSpPr>
          <p:sp>
            <p:nvSpPr>
              <p:cNvPr id="702" name=""/>
              <p:cNvSpPr/>
              <p:nvPr/>
            </p:nvSpPr>
            <p:spPr>
              <a:xfrm>
                <a:off x="6324480" y="30286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62720" y="2266920"/>
                <a:ext cx="1981080" cy="198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05520" y="1809720"/>
                <a:ext cx="2895480" cy="2895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648320" y="1352520"/>
                <a:ext cx="3809880" cy="380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91120" y="895320"/>
                <a:ext cx="4724280" cy="472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58080" y="3485880"/>
                <a:ext cx="11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ucleu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6419880" y="41148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58040" y="21528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38960" y="17146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38960" y="46101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9104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91000" y="41720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8688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41529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10080" y="213372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86560" y="21146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38960" y="12384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24600" y="17715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3384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72400" y="44766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38960" y="50482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4240" y="17715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4408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99072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0" y="5067360"/>
            <a:ext cx="6058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e inner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Comic Sans MS"/>
              </a:rPr>
              <a:t>The next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The next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The next shell has the remaining __ 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38680" y="5853240"/>
            <a:ext cx="3505320" cy="1015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ectron stru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2,8,8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228600" y="1981080"/>
          <a:ext cx="8610120" cy="4114800"/>
        </p:xfrm>
        <a:graphic>
          <a:graphicData uri="http://schemas.openxmlformats.org/drawingml/2006/table">
            <a:tbl>
              <a:tblPr/>
              <a:tblGrid>
                <a:gridCol w="1721520"/>
                <a:gridCol w="1721520"/>
                <a:gridCol w="1723680"/>
                <a:gridCol w="1721880"/>
                <a:gridCol w="1721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28600" y="1981080"/>
          <a:ext cx="8610120" cy="4114800"/>
        </p:xfrm>
        <a:graphic>
          <a:graphicData uri="http://schemas.openxmlformats.org/drawingml/2006/table">
            <a:tbl>
              <a:tblPr/>
              <a:tblGrid>
                <a:gridCol w="1721520"/>
                <a:gridCol w="1721520"/>
                <a:gridCol w="1723680"/>
                <a:gridCol w="1721880"/>
                <a:gridCol w="1721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ryl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228600" y="1981080"/>
          <a:ext cx="8610480" cy="428652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228600" y="1981080"/>
          <a:ext cx="8610480" cy="445788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t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228600" y="1981080"/>
          <a:ext cx="8610480" cy="445788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gnes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ic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590920"/>
            <a:ext cx="15238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95280" y="5028840"/>
            <a:ext cx="1143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2666880"/>
            <a:ext cx="152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ll or Or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ospho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ph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l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g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tass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First Twenty El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    1,0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        2,0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        2,1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yllium    2,2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           2,3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        2,4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     2,5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20 Element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         2,6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        2,7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              2,8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         2,8,1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sium    2,8,2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ium     2,8,3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           2,8,4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20 Element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       2,8,5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phur              2,8,6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            2,8,7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                2,8,8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assium          2,8,8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             2,8,8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lkali me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, Sodium and Potassium have one electron in their outer shell and this is why they are found in group one of the periodic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Nobel gas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bel gases have full outer shells and they are found in group 0 of the periodic table. Helium, Neon, Argon, Krypton, Xenon and Rad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, Chlorine, Bromine and Iodine are the Halogens and they all have seven electrons in their outer shell. This is why they are found in group 7 of the periodic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can displace Chlorine, Bromine and Iod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990360" cy="13381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1568520" cy="22100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                     Cl                    Br                 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ydro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715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has one proton, one electron and N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can displace Bromine and Iodine but it cannot displace Fluo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990720" cy="13384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568520" cy="22096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6095880" y="266688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                    Br                 I                         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mine can displace Iodine but it cannot displace Fluorine or Chlo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990720" cy="13384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1568520" cy="22096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                I                          F                         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7086600" y="373392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cannot displace Iodine Fluorine, Chlorine or Bro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990360" cy="13381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1568520" cy="22100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2438280" y="304812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808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                         F                         Cl              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5"/>
          <a:stretch/>
        </p:blipFill>
        <p:spPr>
          <a:xfrm>
            <a:off x="5105520" y="38862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6"/>
          <a:stretch/>
        </p:blipFill>
        <p:spPr>
          <a:xfrm>
            <a:off x="3200400" y="426708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7"/>
          <a:stretch/>
        </p:blipFill>
        <p:spPr>
          <a:xfrm>
            <a:off x="6934320" y="342900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orine reacts with sodium chloride. Which equation is correctly shows this rea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+ 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F + 2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will displa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F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KI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LiCl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2NaB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 factors affecting      Reaction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alys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entrati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rface Ar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taly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atalyst speeds up or slows down a reaction but does not get used up by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we increase the temperature of a reaction by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the rate will double this means the reaction will be complete in half the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en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we increase the concentration of a reactant the number of particles increase that in turn increases the chance of a collision and initiates a chemical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rger the particle size the smaller the relative area the slower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maller the particle size the greater the relative surface area and the faster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e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71600" y="403812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638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has two electrons, two protons and tw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, sodium and potassium are all in group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l have one electron in the outer sh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react with group 7 to form metal ha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,Chlorine, Bromine and Iod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l have 7 electrons in their outer sh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colou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form metal halides with group 1 me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noble g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ve complete electron sh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shells are fu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nrea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in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re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include, Helium, Neon, Argon, Krypton, Xenon and Ra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685800" y="1219320"/>
          <a:ext cx="7772400" cy="53049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7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le Y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l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od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late gr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ne react to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nd Chlorine react to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Chlor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e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 of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is put into water supplies to kill harmful bacteria and to help keep teeth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used in swimming pools to bacteria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mine is used in pesticides. Silver bromide is used in photograp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an antiseptic on cuts and gra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 and atomic nu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219320"/>
          <a:ext cx="8610480" cy="182232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e M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e Ch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u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685800" y="3962520"/>
            <a:ext cx="1905120" cy="2361960"/>
            <a:chOff x="685800" y="3962520"/>
            <a:chExt cx="1905120" cy="2361960"/>
          </a:xfrm>
        </p:grpSpPr>
        <p:sp>
          <p:nvSpPr>
            <p:cNvPr id="108" name=""/>
            <p:cNvSpPr/>
            <p:nvPr/>
          </p:nvSpPr>
          <p:spPr>
            <a:xfrm>
              <a:off x="685800" y="3962520"/>
              <a:ext cx="1905120" cy="236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219320" y="4648320"/>
              <a:ext cx="83808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133720" y="5791320"/>
              <a:ext cx="3045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33720" y="4114800"/>
              <a:ext cx="3045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14600" y="3581280"/>
            <a:ext cx="6172200" cy="838440"/>
            <a:chOff x="2514600" y="3581280"/>
            <a:chExt cx="6172200" cy="838440"/>
          </a:xfrm>
        </p:grpSpPr>
        <p:sp>
          <p:nvSpPr>
            <p:cNvPr id="113" name=""/>
            <p:cNvSpPr/>
            <p:nvPr/>
          </p:nvSpPr>
          <p:spPr>
            <a:xfrm>
              <a:off x="3429000" y="3581280"/>
              <a:ext cx="525780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ASS NUMBER = number of protons + number of neutr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4114800"/>
              <a:ext cx="1143000" cy="304920"/>
            </a:xfrm>
            <a:prstGeom prst="leftArrow">
              <a:avLst>
                <a:gd name="adj1" fmla="val 50000"/>
                <a:gd name="adj2" fmla="val 93713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62320" y="4876920"/>
            <a:ext cx="6324480" cy="459720"/>
            <a:chOff x="2362320" y="4876920"/>
            <a:chExt cx="6324480" cy="459720"/>
          </a:xfrm>
        </p:grpSpPr>
        <p:sp>
          <p:nvSpPr>
            <p:cNvPr id="116" name=""/>
            <p:cNvSpPr/>
            <p:nvPr/>
          </p:nvSpPr>
          <p:spPr>
            <a:xfrm>
              <a:off x="3429000" y="4876920"/>
              <a:ext cx="525780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MB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952880"/>
              <a:ext cx="1143000" cy="304920"/>
            </a:xfrm>
            <a:prstGeom prst="leftArrow">
              <a:avLst>
                <a:gd name="adj1" fmla="val 50000"/>
                <a:gd name="adj2" fmla="val 9371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14600" y="5791320"/>
            <a:ext cx="6172200" cy="825480"/>
            <a:chOff x="2514600" y="5791320"/>
            <a:chExt cx="6172200" cy="825480"/>
          </a:xfrm>
        </p:grpSpPr>
        <p:sp>
          <p:nvSpPr>
            <p:cNvPr id="119" name=""/>
            <p:cNvSpPr/>
            <p:nvPr/>
          </p:nvSpPr>
          <p:spPr>
            <a:xfrm>
              <a:off x="3429000" y="5791320"/>
              <a:ext cx="5257800" cy="825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OTON NUMBER = number of protons (obviousl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5791320"/>
              <a:ext cx="1143000" cy="304560"/>
            </a:xfrm>
            <a:prstGeom prst="leftArrow">
              <a:avLst>
                <a:gd name="adj1" fmla="val 50000"/>
                <a:gd name="adj2" fmla="val 93824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e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371600" y="403812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638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has two electrons, two protons and tw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Lith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23:26Z</dcterms:created>
  <dc:creator>DTC 06</dc:creator>
  <dc:description/>
  <dc:language>en-US</dc:language>
  <cp:lastModifiedBy>Brucester</cp:lastModifiedBy>
  <dcterms:modified xsi:type="dcterms:W3CDTF">2005-12-12T20:48:34Z</dcterms:modified>
  <cp:revision>16</cp:revision>
  <dc:subject/>
  <dc:title>Chemical Patterns 2001</dc:title>
</cp:coreProperties>
</file>